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283-CE25-44D6-BCDF-75CD5456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7A8-3ABE-49B4-B829-3256231B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380-DB8B-4F66-B6FA-153CE8B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EC1-F9B2-49E5-8876-2D504CED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040-BC87-4295-8B08-CD68E3B2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F9C-AAD0-4201-94EF-4558888A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0ED-8A46-432E-817D-65640D8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FC4-3A43-4D42-AEBA-3BC57C27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A71-B190-46B8-A4CC-DF595A5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3196-F1FE-47DB-ACDE-DFBEA3C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753-F4BC-45EC-AC20-23EE050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0A8-67AA-464B-AEB2-9A450094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BB2-5030-42E2-9F85-2C13D1D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9DCB-C871-4FA1-BC90-B409187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D12-EC8E-4279-9F47-F9521A03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CF3-DF82-468E-AABD-FB1C1563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D52-318C-49A1-A3BA-780CF000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B5C-56DE-46C8-830E-308844C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C1D-6975-4C33-8D6A-9E68C249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2E0-0ACB-4E27-B14F-4ECAA6FC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263-D729-4F7A-8125-9103F486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100-5B3D-4B4F-BD56-C5BD786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296-CA88-4BC1-88B8-030D8D2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E83-C44D-49E6-A9E0-A3AEAB7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A03-902C-4831-A4DB-C530066FBF6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C3E2-4B64-4496-99FF-F843066E508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Методы цифровой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голографической интерференционной микроскопии.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Исследование морфологии эритроцитов крови. </a:t>
            </a:r>
            <a:br>
              <a:rPr sz="4000"/>
            </a:br>
            <a:br>
              <a:rPr sz="3600"/>
            </a:b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Тишко Т.В., Титарь В.П., Тишко Д.Н.</a:t>
            </a: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Харьковский национальный университет 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им. В.Н. Каразина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Институт голографии АН ПРЭ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4797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Влияние озонотерапии на форму эритроцитов крови пациента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Изменение морфологии эритроцитов при гемолитической анемии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2736720" cy="2476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2852640"/>
            <a:ext cx="2819520" cy="251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205080" y="2852640"/>
            <a:ext cx="2733840" cy="2514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225960" cy="221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547640" y="404640"/>
            <a:ext cx="269244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32360" y="2924280"/>
            <a:ext cx="3672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Эритроциты артериальной (а)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и венозной (б)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рови крысы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Эритроциты артериальной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рови крысы после облучения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гамма – радиацией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в дозе 20000 рентген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n vivo (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n vitro (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г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2133720" cy="374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411280" y="2924280"/>
            <a:ext cx="1944720" cy="374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220500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2276640"/>
            <a:ext cx="5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616572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616572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8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32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4360" y="7029360"/>
            <a:ext cx="777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805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Внешний вид цифрового голографического интерференционного микроско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Интерферограммы эритроцитов крови человека и восстановленные по ним трехмерные изображен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51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5760" y="403200"/>
            <a:ext cx="822636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77200" y="621504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Фрагмент нативного мазка крови здорового челове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5760" y="500040"/>
            <a:ext cx="8226360" cy="5367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37560" y="614376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Фрагмент нативного мазка крови здорового челове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Коэффициент сферичности эритроцит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2920" y="5229360"/>
                <a:ext cx="1166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ц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22560" y="5203800"/>
                <a:ext cx="600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125800" y="5877000"/>
                <a:ext cx="59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773440" y="5300640"/>
            <a:ext cx="525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- 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толщина эритроцита в его центре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5950080"/>
            <a:ext cx="56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- 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толщина эритроцита на половине его радиу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48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Нормальный эритроцит крови человека в виде двояковогнутого диска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Патологические формы эритроцитов крови человека. Плоский дискоцит и сфероцит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032360" cy="2952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2360" y="3500280"/>
            <a:ext cx="86425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Фрагменты нативных мазков крови здорового человека и пациента с кавернозно-папиллярной гемангиомо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5444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Интерферограмма фрагмента мазка крови, полученная методом голографического вычитания и восстановленное по ней трехмерное изображе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6483600" cy="4565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2360" y="549360"/>
            <a:ext cx="19432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03:33Z</dcterms:created>
  <dc:creator>И.Ф. Крузенштрн</dc:creator>
  <dc:description/>
  <dc:language>en-US</dc:language>
  <cp:lastModifiedBy>Дима</cp:lastModifiedBy>
  <dcterms:modified xsi:type="dcterms:W3CDTF">2007-03-28T14:53:07Z</dcterms:modified>
  <cp:revision>23</cp:revision>
  <dc:subject/>
  <dc:title>Application of the digital holographic microscope for investigation of human red blood cells    T. V. Tishko, V. P. Titar, D. N. Tishko  V. N. Karazin Kharkov National University</dc:title>
</cp:coreProperties>
</file>